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A2EC-6D09-413C-931C-76DCC860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4BDD-5F77-4125-B763-5B6AA1EA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A35D-8489-4A72-A12C-F5D418426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9813-A2C2-4A00-902F-D3846E3BC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8161-6B21-4287-B361-0AEFD2E3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250E-D32F-4E99-83A0-5FEB2D41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8422-1687-4D5C-B9F8-5CB23D7C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3548-C3D2-429F-894A-702DEA72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A2FB-AF78-4B67-863D-013C4C50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3112-98F9-4A6D-A23E-09E8E8F6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FC5D-8A1C-473F-8F90-5F3F0C99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BA89-0012-4599-8499-A492C6E8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8040-60FB-4954-8FA8-D839CFFA1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1557360"/>
            <a:ext cx="6985080" cy="5300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5013360"/>
            <a:ext cx="6120000" cy="18446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08360" y="3500280"/>
            <a:ext cx="863640" cy="1584360"/>
          </a:xfrm>
          <a:prstGeom prst="can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2276640"/>
            <a:ext cx="2087640" cy="14396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2000" y="2492280"/>
            <a:ext cx="1008360" cy="1079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2492280"/>
            <a:ext cx="1079280" cy="1079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19640" y="2781360"/>
            <a:ext cx="502920" cy="50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27640" y="2781360"/>
            <a:ext cx="503280" cy="50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24360" y="3429000"/>
            <a:ext cx="431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4360" y="3500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2986200"/>
            <a:ext cx="2173320" cy="1619280"/>
          </a:xfrm>
          <a:custGeom>
            <a:avLst/>
            <a:gdLst/>
            <a:ahLst/>
            <a:rect l="l" t="t" r="r" b="b"/>
            <a:pathLst>
              <a:path w="1369" h="1020">
                <a:moveTo>
                  <a:pt x="99" y="597"/>
                </a:moveTo>
                <a:cubicBezTo>
                  <a:pt x="159" y="582"/>
                  <a:pt x="341" y="726"/>
                  <a:pt x="416" y="733"/>
                </a:cubicBezTo>
                <a:cubicBezTo>
                  <a:pt x="491" y="740"/>
                  <a:pt x="476" y="718"/>
                  <a:pt x="552" y="642"/>
                </a:cubicBezTo>
                <a:cubicBezTo>
                  <a:pt x="628" y="566"/>
                  <a:pt x="749" y="385"/>
                  <a:pt x="870" y="279"/>
                </a:cubicBezTo>
                <a:cubicBezTo>
                  <a:pt x="991" y="173"/>
                  <a:pt x="1195" y="0"/>
                  <a:pt x="1278" y="7"/>
                </a:cubicBezTo>
                <a:cubicBezTo>
                  <a:pt x="1361" y="14"/>
                  <a:pt x="1369" y="233"/>
                  <a:pt x="1369" y="324"/>
                </a:cubicBezTo>
                <a:cubicBezTo>
                  <a:pt x="1369" y="415"/>
                  <a:pt x="1338" y="468"/>
                  <a:pt x="1278" y="551"/>
                </a:cubicBezTo>
                <a:cubicBezTo>
                  <a:pt x="1218" y="634"/>
                  <a:pt x="1097" y="793"/>
                  <a:pt x="1006" y="823"/>
                </a:cubicBezTo>
                <a:cubicBezTo>
                  <a:pt x="915" y="853"/>
                  <a:pt x="832" y="703"/>
                  <a:pt x="734" y="733"/>
                </a:cubicBezTo>
                <a:cubicBezTo>
                  <a:pt x="636" y="763"/>
                  <a:pt x="529" y="990"/>
                  <a:pt x="416" y="1005"/>
                </a:cubicBezTo>
                <a:cubicBezTo>
                  <a:pt x="303" y="1020"/>
                  <a:pt x="106" y="891"/>
                  <a:pt x="53" y="823"/>
                </a:cubicBezTo>
                <a:cubicBezTo>
                  <a:pt x="0" y="755"/>
                  <a:pt x="39" y="612"/>
                  <a:pt x="99" y="597"/>
                </a:cubicBez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58920" y="3152880"/>
            <a:ext cx="1739880" cy="1307880"/>
          </a:xfrm>
          <a:custGeom>
            <a:avLst/>
            <a:gdLst/>
            <a:ahLst/>
            <a:rect l="l" t="t" r="r" b="b"/>
            <a:pathLst>
              <a:path w="1096" h="824">
                <a:moveTo>
                  <a:pt x="1066" y="582"/>
                </a:moveTo>
                <a:cubicBezTo>
                  <a:pt x="1036" y="529"/>
                  <a:pt x="953" y="560"/>
                  <a:pt x="840" y="492"/>
                </a:cubicBezTo>
                <a:cubicBezTo>
                  <a:pt x="727" y="424"/>
                  <a:pt x="484" y="189"/>
                  <a:pt x="386" y="174"/>
                </a:cubicBezTo>
                <a:cubicBezTo>
                  <a:pt x="288" y="159"/>
                  <a:pt x="310" y="424"/>
                  <a:pt x="250" y="401"/>
                </a:cubicBezTo>
                <a:cubicBezTo>
                  <a:pt x="190" y="378"/>
                  <a:pt x="46" y="0"/>
                  <a:pt x="23" y="38"/>
                </a:cubicBezTo>
                <a:cubicBezTo>
                  <a:pt x="0" y="76"/>
                  <a:pt x="1" y="522"/>
                  <a:pt x="114" y="628"/>
                </a:cubicBezTo>
                <a:cubicBezTo>
                  <a:pt x="227" y="734"/>
                  <a:pt x="553" y="643"/>
                  <a:pt x="704" y="673"/>
                </a:cubicBezTo>
                <a:cubicBezTo>
                  <a:pt x="855" y="703"/>
                  <a:pt x="961" y="824"/>
                  <a:pt x="1021" y="809"/>
                </a:cubicBezTo>
                <a:cubicBezTo>
                  <a:pt x="1081" y="794"/>
                  <a:pt x="1096" y="635"/>
                  <a:pt x="1066" y="582"/>
                </a:cubicBez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4724280"/>
            <a:ext cx="287280" cy="1441440"/>
          </a:xfrm>
          <a:prstGeom prst="flowChartTermina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84720" y="4724280"/>
            <a:ext cx="287280" cy="1441440"/>
          </a:xfrm>
          <a:prstGeom prst="flowChartTermina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348000" y="1700280"/>
            <a:ext cx="287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572000" y="1628640"/>
            <a:ext cx="216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65720"/>
            <a:ext cx="9144000" cy="1942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00:37:42Z</dcterms:created>
  <dc:creator>Admin</dc:creator>
  <dc:description/>
  <dc:language>en-US</dc:language>
  <cp:lastModifiedBy>Admin</cp:lastModifiedBy>
  <dcterms:modified xsi:type="dcterms:W3CDTF">2009-07-16T00:53:16Z</dcterms:modified>
  <cp:revision>2</cp:revision>
  <dc:subject/>
  <dc:title>Slide 1</dc:title>
</cp:coreProperties>
</file>